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8761-CD3E-4FF9-9F76-915D3B02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5B38-4E53-4E45-9CE3-285F053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BCC9C-6DCB-4C3A-B298-21F86767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510C-2969-4721-85BF-4E97981A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7CA0-4A0B-4221-8D83-B1431716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47E-A4C3-458B-9F20-941A0DC5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9118-A680-461D-91FB-9DBA9E1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2659-F6BE-4644-89FE-830C662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5BB0-7EAB-4874-9E69-C21FFE2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F6BA-38DC-42DE-85AE-0E6D609E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BB97-B94D-4A6D-8532-39E928C1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CE7D-D8F9-40D9-8766-800118C6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D7DF-3CE7-4FD0-8420-88DFFE9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5FBE-1B17-412E-AC6B-259A973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314-6429-4BA6-B6FF-B5255224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438-0D9D-4D26-B907-18AE984A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A307-3E93-44CD-8DD6-03542A4C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7493-2028-4842-AC99-888B51F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3DE4-1879-4E29-B469-CBA2CF6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89CA-5C82-4ED7-A1CD-4BFF360A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8086-25FF-4F3D-8AD1-A8B38121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AA82-122B-4F53-8DF8-90B5129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6CC1-703A-47F0-A769-A9B1F76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38C1-4F11-4D95-9623-D87FAF4B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32F2-C45C-4653-9FCB-06748D4E8D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81DA-F64E-40DC-AAD7-4E2959BF3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Go Tell The Good News</a:t>
            </a:r>
            <a:br>
              <a:rPr sz="5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Quarter 12, Lesson 9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0:7-21: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80-18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ap Of Paul’s Third Jour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 through Maced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tolem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 Of Acts 20:7 - 21:17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aching at 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iling to 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Ty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al at 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aching At Tro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rived at Troas from Philipp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ay of the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preached a les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utychus fell asleep during the lesson and fell from the third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embraced him and healed hi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is the first time the Lord Supper is recorded as being obser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iling To Mile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traveling through Assos, Mitylene, Chios, and Samos, Paul arrived at Mile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tus is a seaport in close proximity to Ephes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came here instead of traveling into Ephesus because he was hurrying to get to Jerusalem for Pente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ailing To Miletus (cont’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there, Paul called the elders of Ephesus together to give them a final char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his charge he included the following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have served the Lord faithful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There is trouble in Jerusa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 will not see you ag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alse teachers will come among yo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Ty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traveling through Cos, Patara and Rhodes Paul went aboard a ship headed to Phoeni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Rhodes they went to Cyprus and Syria and then arrived at Tyre where the ship was unloading some car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tayed a short while visiting and then bid farewell to the disciples there and reboarded the 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Caes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stopping for a brief time in Ptolemais, Paul came to the seaport of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Paul met up once again with Phil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met Agabus the prophet who tells Paul about his fate in Jerusa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esareans begged him not to go but he persi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rrival At Jerusal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rrived safely at Jerusalem and was welcomed warmly by the brethren the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ap Of Paul’s Third Jour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och of Sy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latia and Phry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hesus (Book of Galatians and 1 Corinth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o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cedonia (2 Corinth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inth (Book of Roma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0:09:47Z</dcterms:created>
  <dc:creator>Tab L. Vines</dc:creator>
  <dc:description/>
  <dc:language>en-US</dc:language>
  <cp:lastModifiedBy>Tab L. Vines</cp:lastModifiedBy>
  <dcterms:modified xsi:type="dcterms:W3CDTF">2007-02-04T03:32:59Z</dcterms:modified>
  <cp:revision>9</cp:revision>
  <dc:subject/>
  <dc:title>Go Tell The Good News Quarter 12,Lesson 9</dc:title>
</cp:coreProperties>
</file>